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C32-A1E9-4364-ADBB-4C65FA6A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051-B5E8-4192-A1D6-BAB82430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3F6-A980-41B9-B14F-1B12B303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7F5-4E35-417E-9F6D-80B2D648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90E-64FF-4BB7-AD1C-1C7E8D43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1B6-4F68-4B7E-8C3C-1428E56A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4A7-5598-4408-B221-67B57336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2C6-F457-46E6-A86A-7A853DCC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953-9206-47A5-BB36-58731F56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102-7035-4FCC-A5C8-79D7B3F2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B11-C288-48D1-BFF4-0ACE3543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C71-CA1F-4AB5-B317-E186B74E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FF90-F0A2-4CB6-934D-2C4AD10EC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217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НДИВИДУАЛНО ОДРЕЂИВАЊЕ ДНЕВНИХ ЕНЕРГЕТСКИХ ПОТРЕБА</a:t>
            </a:r>
            <a:br>
              <a:rPr sz="4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ПРАКТИЧНИ РАД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E:\Nena\Doktorske\MFgrb.gif"/>
          <p:cNvPicPr/>
          <p:nvPr/>
        </p:nvPicPr>
        <p:blipFill>
          <a:blip r:embed="rId1"/>
          <a:stretch/>
        </p:blipFill>
        <p:spPr>
          <a:xfrm>
            <a:off x="8088480" y="0"/>
            <a:ext cx="1055520" cy="15238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152280" y="1522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Факултет 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едицинск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у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у Крагујев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не струковне студи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ИЈЕТЕ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51640" y="57340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АТЕДРА ЗА ФИЗИОЛОГИЈУ И ДИЈЕТЕТИК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14600" y="3886200"/>
            <a:ext cx="3065400" cy="2773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09:24:38Z</dcterms:created>
  <dc:creator>XP</dc:creator>
  <dc:description/>
  <dc:language>en-US</dc:language>
  <cp:lastModifiedBy>XP</cp:lastModifiedBy>
  <dcterms:modified xsi:type="dcterms:W3CDTF">2014-02-07T09:04:22Z</dcterms:modified>
  <cp:revision>2</cp:revision>
  <dc:subject/>
  <dc:title>ИНДИВИДУАЛНО ОДРЕЂИВАЊЕ ДНЕВНИХ ЕНЕРГЕТСКИХ ПОТРЕБА -ПРАКТИЧНИ РАД-</dc:title>
</cp:coreProperties>
</file>